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DA4-A072-49C2-8F38-97926BE2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MART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 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 up for mid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MART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 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 up for mid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908-C697-46E6-8AC6-337AB9F9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4EF-74E9-407B-B007-A3D1AAC6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1B3-85D0-4195-8C7B-E3CB7199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970-3FA1-4BEB-821D-1A0A8C40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F45-999E-4F45-9290-AAABFAD6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9E8-6192-4EFC-8C9B-0036C955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846-DEF7-4C02-857B-51A460F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BBA-4BB3-46A1-A225-53A9B92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569-8F09-4507-BABA-04C2987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D19-2353-4955-90BD-AD4DDBF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B01-A6E1-417E-AFBD-2F29E41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60A-D5D0-427E-B536-627EDF8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071-1C86-4B3A-ADEA-FFAB66979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Relationships in the 21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empus Sans ITC"/>
              </a:rPr>
              <a:t>st</a:t>
            </a: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 Century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2010-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k Creatively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, implement and communicate new ideas to others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and responsive to new and diverse perspectives; incorporate group input and feedback into th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originality and inventiveness in work and understand the real world limits to adopting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ailure as an opportunity to learn; understand that creativity and innovation is a long-term, cyclical process of small successes and frequent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plement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n creative ideas to make a tangible and useful contribution to the field in which the innovation will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ous types of reasoning (inductive, deductive, etc.) as appropriate to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se System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how parts of a whole interact with each other to produce overall outcomes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Judgments and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ly analyze and evaluate evidence, arguments, claims and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and evaluate major alternative points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 and make connections between information and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information and draw conclusions based on the be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critically on learning experience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different kinds of non-familiar problems in both conventional and innovative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ask significant questions that clarify various points of view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to bette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empus Sans ITC"/>
              </a:rPr>
              <a:t>COMMUNICATION AND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unicate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 thoughts and ideas effectively using oral, written and nonverbal communication skills in a variety of forms an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effectively to decipher meaning, including knowledge, values, attitudes and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munication for a range of purposes (e.g. to inform, instruct, motivate and persu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multiple media and technologies, and know how to judge their effectiveness a priori as well as assess thei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effectively in diverse environments (including multi-ling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uiding Question #3: How can we, the Professional Learning Community of NRHS, foster deeper relationships with each other?  What are we going to do to Make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empus Sans ITC"/>
              </a:rPr>
              <a:t>COMMUNICATION AND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laborate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ability to work effectively and respectfully with diverse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lexibility and willingness to be helpful in making necessary compromises to accomplish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hared responsibility for collaborative work, and value the individual contributions made by each team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The Future</a:t>
            </a: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Guiding Question #4: What should a graduate of North Rockland High School know and be able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eptember 16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 Skills?  How can we, the Professional Learning Community of NRHS, promote these skills in our curriculums, instruction and assessm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Skills,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ation: Information from The Partnership fo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Skills at http://www.p21.org/index.php?option=com_content&amp;task=view&amp;id=254&amp;Itemid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Parent Teachers Students Association (PT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, Membership,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31244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eptember 16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 Skills?  How can we, the Professional Learning Community of NRHS, promote these skills in our curriculums, instruction and assessm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Skills,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ation: Information from The Partnership fo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Skills at http://www.p21.org/index.php?option=com_content&amp;task=view&amp;id=254&amp;Itemid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Well-Rounded Edu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not a question of content versus skills – it’s about creating challenging, profoundly engaging, and authentic educational experiences that produce lifelong learn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He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ramework for 21</a:t>
            </a:r>
            <a:r>
              <a:rPr b="0" lang="en-US" sz="4000" spc="-1" strike="noStrike" baseline="30000">
                <a:solidFill>
                  <a:srgbClr val="008000"/>
                </a:solidFill>
                <a:latin typeface="Tempus Sans ITC"/>
              </a:rPr>
              <a:t>st</a:t>
            </a: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 Century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and Innov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, Media and Technolog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and Care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Guiding Question #1:  What skills/tools do students need to be successful in the 21</a:t>
            </a:r>
            <a:r>
              <a:rPr b="1" i="1" lang="en-US" sz="32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cen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4582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Learning and Innovation Skil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nd innovation skills are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tudents who are prepa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 complex life an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s in today’s world and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not.”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eativ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: Promoting Creativity and Innovation in the Classro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D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wide range of idea creation techniques (such as brainstor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and worthwhile ideas (both incremental and radical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, refine, analyze and evaluate their own ideas in order to improve and maximize creativ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Guiding Question #2: What are you doing to foster these skills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8:33:52Z</dcterms:created>
  <dc:creator>North Rockland High School</dc:creator>
  <dc:description/>
  <dc:language>en-US</dc:language>
  <cp:lastModifiedBy>North Rockland High School</cp:lastModifiedBy>
  <dcterms:modified xsi:type="dcterms:W3CDTF">2010-08-17T18:18:57Z</dcterms:modified>
  <cp:revision>5</cp:revision>
  <dc:subject/>
  <dc:title>Make It Happen  2010-2011</dc:title>
</cp:coreProperties>
</file>